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866-A715-4666-BCF7-ACFADD72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A78-4541-4280-9157-98AADABB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EDB-7A7F-4433-8B95-15AB9C13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A05-9666-46B0-AAE3-F6E3CD6D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9B0-DA9A-444E-B766-FB1C6B71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93E-08FE-4ABD-AFBC-785B775C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C43-3909-4E75-B7BB-5F556DF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DF5-FED8-42CC-9AD2-F5C4DB2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4CC-2873-4D8B-9E4D-7E7A8FF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188-3EC6-467F-A7DC-5B44948D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F5F-CD78-4390-A76F-180A98C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C25-D36F-4337-B3CA-33CAF84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94C-5815-4A3A-B837-FFCBA7C6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533520"/>
            <a:ext cx="3809880" cy="27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7400" y="3773520"/>
            <a:ext cx="681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art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alike?  How are the diffe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carefully 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505320"/>
            <a:ext cx="29718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Untit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Rowan LeComp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stained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30” x 3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c.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429000"/>
            <a:ext cx="35053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Snake With Crest Shape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Minnie Evans,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ax crayon, graphite, ink 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7” x 9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432160" cy="2438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3353040" cy="2432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880" y="567864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Nine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descriptive language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line, shape,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line, shape, stained glass, mixe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2963880" cy="297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14800" y="930240"/>
            <a:ext cx="411480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317920" cy="5333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8720" y="5678640"/>
            <a:ext cx="84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 is mad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ined g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Let’s look at it 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for a few minutes.  What do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4640" y="4154400"/>
            <a:ext cx="810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ined glass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ade by cutting colored glas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cut pieces together with lead to make an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d makes the thick black lines that divide the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s are clear and bright because the light p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colored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80" y="3962520"/>
            <a:ext cx="88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person in the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he or she appear to be doing?  Support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overall shape of the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apes do you see inside the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4160" cy="350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4280" y="415440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 the face and hair are painted onto the glas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ass is fired in a speci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the 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ed glass is most often seen in church windows an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1972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560" y="3697200"/>
            <a:ext cx="81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twork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ed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t was done with pencil, w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yon and 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ar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notice in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257800" cy="381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038480"/>
            <a:ext cx="823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that both sides of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metrical 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elements are not symmetr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19720" cy="320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0560" y="3657600"/>
            <a:ext cx="807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s of this image can y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s of this image are things you do not recog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find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w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making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7T09:30:2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